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36D-B2CF-4D50-AB62-5899064C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EFD-E612-485D-BD10-6ACB8CCC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766-261B-4366-8A39-DBF62513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750-1B66-4E98-BC4F-A5E0CBF8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4E2D0-7A0F-4261-B096-901FF13E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468FA-A850-4387-A705-A08AEB4E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7BE41-0820-4373-B34F-13C09E61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BDBA3-31D5-4E17-BD21-BA991F7B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7984C-E5D3-45E3-AFC1-90BEDD13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362A3-6865-4863-9CA1-4BB07CD8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34BFE-A98E-4240-8B07-0375E90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4E3-6A06-422D-98D4-73EAE5B4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690B7-EE9C-4B90-8AE2-C3708B9E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38937-0AEB-4873-A29A-233463E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759F6-37F1-4168-BD90-2A7F2F97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52150-9FBD-4FE5-BB07-F22B1437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60934-FCF5-46E8-8901-6B3BEFE6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260-1AE5-41E2-A214-C660C0A5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533-DDF2-43FC-8421-420AFA57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5CE-5DB9-48F3-93DC-61215F37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126-DC1B-418C-8ECA-325A0160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A9F-085A-4779-B0CB-FC728162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A8B-A4B5-473E-A5E0-5F7505F3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720-98AD-4669-B234-0A05720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00ED-6A63-4CEE-92FD-28D8E328F1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2B1B-2A91-4EC7-848C-8776647CF3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Go Tell The Good New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1 &amp; 2 Thessalon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ages 108-1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-12)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disturbed by false teaching regarding the Lord’s second com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:1-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ill not return right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postasy will com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do not want the truth will be given the opportunity to believe a 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3-17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salonians were chosen and called by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admonished the bret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tand firm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the traditions that they were ta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prayed that Jesus would comfort their hearts and establish them in every good word and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3:1-18)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asked for their prayers so..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the word of the Lord will be received fre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they might be delivered from wicked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 with those who walk disorderl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out of step with the things preached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not obey the instructions in his first l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not minding their own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 to associate wit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3:1-18)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7160" y="1598760"/>
            <a:ext cx="86868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personally signed his letters in every epistle he wr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recorded epistle written by P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from Corinth in A.D. 51-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 and Silas had joined P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for the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trengthen the faith of the Christian’s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aced severe persec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sure them of Christ’s 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who died in the Lord are sa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urge some not to neglect daily work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1:2-10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6800" y="1599840"/>
            <a:ext cx="86835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Silas and Timothy thanked God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work in the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labor of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steadfastness of hope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onversion in spite of great affl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urned from idols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-16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6800" y="1598400"/>
            <a:ext cx="86835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coming to them was not in v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preaching was never of error, or impurity, or dec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seek to please men, but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day and night not to be a burden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use flattering words, nor preach for gr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7-3:10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" y="1598400"/>
            <a:ext cx="86835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was worried that the persecution would make them giv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nted to go to them, but Satan stopp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nt Timothy to strengthen and encourag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 returned with good news about their faith and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was comforted by the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4:1-18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ed on how to walk and pleas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sion means a special kind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ain from sexual immor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cheat your brother in any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quietly and take care of your own af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have died in Christ are sa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will bring them when Christ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ad in Christ will be raised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5:1-28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of His coming is unknown (5:1-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ill come as a thief in the n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 said, “Peace and Safe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be warned and be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and be so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vation is at s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ions for the church, and closing remark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:12-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" y="1599840"/>
            <a:ext cx="86835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ort time had elapsed between the first letter and the second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ed for a second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larify and correct misunderstandings from the first letter in the minds of the Thessalon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ke them aware that false teachers had presented a letter to them in his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1:3-12)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omforted in your afflictions; God will av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thanked them for their steadfa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knew their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would see that justice was 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said that they would continue to pray that they would grow in every way, that they would glorify Christ, and that He may glorify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0:42:13Z</dcterms:created>
  <dc:creator>robert marshall</dc:creator>
  <dc:description/>
  <dc:language>en-US</dc:language>
  <cp:lastModifiedBy>Frank D Vines</cp:lastModifiedBy>
  <dcterms:modified xsi:type="dcterms:W3CDTF">2007-03-21T22:57:44Z</dcterms:modified>
  <cp:revision>15</cp:revision>
  <dc:subject/>
  <dc:title>Go Tell The Good News</dc:title>
</cp:coreProperties>
</file>